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0B28-B029-4D49-AFCA-DAD23EAD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1ECD-3015-48E2-831E-96763110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6124-9637-454D-9208-98749662E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03B0-56D9-4065-90D1-69037FBD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5607-3520-4B04-B20E-B2A7A3CE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9D54-401B-4923-B2B6-FD4CBD90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4CD9-08B1-4EB7-B4B8-5CA0B99A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33B0-8894-4C33-858D-CAE091CB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A96F-CDBB-4FFB-9BDE-AC881321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CB6F-7936-4C1A-9372-D22B34B3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1305-EF43-42AE-9AC7-F4AA4F0C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72F5-5A54-4D3E-A28A-3A00EDBF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4C21-9C25-450E-A3CC-D57CA6B185CE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89 Pane, svoje po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hnani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ane svoje požehnan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sobotný nám udeľ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tom dni tebou oddelen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ch Duch Svätý vládne v 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auč chodiť v poslušn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eri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, prosi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v úprimn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šetkých spolu priprav ná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a príchodu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ojho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s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osväť srdce, očisť mys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ad zlom víťaziť nám d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je smútok, úzkosť v duš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ieru našu podpier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svieť rozum, daj nám sil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orozumieť tvojmu diel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šetkých spolu priprav ná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a príchodu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ojho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s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ane, tvoje Slovo vzác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tvára nám spásy zdr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uchom svojím pôsob moc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ch v nás vidieť obraz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čisť ústa, otvor uš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rnu pravdy vzrast daj v duš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šetkých spolu priprav ná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a príchodu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ojho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s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aj, nech v svätej horliv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ráčame vždy za tebou,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zbav</a:t>
            </a:r>
            <a:r>
              <a:rPr b="1" lang="sk-SK" sz="3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nás</a:t>
            </a:r>
            <a:r>
              <a:rPr b="1" lang="sk-SK" sz="3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vš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etkých</a:t>
            </a:r>
            <a:r>
              <a:rPr b="1" lang="sk-SK" sz="3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pochybností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36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vieť nám tohto sveta tmou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vojou láskou vykúpený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pút hriechu pozbavený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šetkých spolu priprav ná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a príchodu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ojho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s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3:11:12Z</dcterms:modified>
  <cp:revision>25</cp:revision>
  <dc:subject/>
  <dc:title>Je veľký náš Pán, on slávy je Kráľ Nech do všetkých strán  spev vrúcnych znie chvál.</dc:title>
</cp:coreProperties>
</file>